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FC7-3239-47CE-A274-34ECDCF3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5B2-E299-4FE1-A3FB-20252C13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8DE4-E652-4DAD-A07D-5862A2C3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FE9-3DD0-4D85-A8B0-F58C8A50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839-61E2-4822-A4B1-179C3896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731-A55A-4833-9166-22C0F2CC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B17-618E-4DF7-B606-87394E08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F4A-1D6B-4616-B97E-665EC9B4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683-212E-4246-95FA-086E6EE1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A92-EAE7-4352-BD19-78914CB1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51C-0D6B-4B8A-B65C-B506A893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892-0F9B-44FB-B085-3B77EFC6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F23D-48AE-4A74-9DB1-57D42F18C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3:36:01Z</dcterms:created>
  <dc:creator> </dc:creator>
  <dc:description/>
  <dc:language>en-US</dc:language>
  <cp:lastModifiedBy> </cp:lastModifiedBy>
  <dcterms:modified xsi:type="dcterms:W3CDTF">2008-11-11T13:36:07Z</dcterms:modified>
  <cp:revision>1</cp:revision>
  <dc:subject/>
  <dc:title>Slide 1</dc:title>
</cp:coreProperties>
</file>